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D850-98DD-4AB1-9897-333701D708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160C-3D6A-43FF-866E-437C3829BC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DCF6-18BF-4576-8BDA-87EB51070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B49A-DADE-4E92-8224-C05C3E8D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30BF-D97A-4D36-A336-CF6095044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CE74-6988-4E62-B3C3-7B38DA896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20CD-CBA2-43FC-A667-E128BE40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F0D9-CB34-44A4-8D24-85E4E8F9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2DAC-E12F-4331-87E9-8B34C35C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13F5-85CB-4D68-B1ED-EAC65A00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DC93-4D0D-4A6F-A2E4-4196B39A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46D5-BC5B-4136-9D59-7C1C0A4A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C30F-61A4-4D6F-B9DC-84F5A104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32F2-7705-4C05-A4FE-0D495402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1CF8-EC05-40D4-A2DC-D554DE4575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9562-EE01-4777-BEA4-C8E36719F5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208080" y="1433520"/>
          <a:ext cx="8874000" cy="524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080" y="1433520"/>
                    <a:ext cx="8874000" cy="52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верхнего предела муниципального долга на 1 января 2020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D333-707D-4623-AF04-14473F833D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 на 1 января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2020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270000" y="1081080"/>
          <a:ext cx="8832600" cy="580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1081080"/>
                    <a:ext cx="8832600" cy="58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Наговицына</cp:lastModifiedBy>
  <cp:lastPrinted>2020-01-10T05:43:34Z</cp:lastPrinted>
  <dcterms:modified xsi:type="dcterms:W3CDTF">2020-01-10T06:54:15Z</dcterms:modified>
  <cp:revision>111</cp:revision>
  <dc:subject/>
  <dc:title>Презентация PowerPoint</dc:title>
</cp:coreProperties>
</file>